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C326-B337-408A-A368-D54A57B6B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9529-171D-40EB-8E77-C926084D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E7BF-E9BC-4A1D-8F82-7D7352427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8D1E-6AD5-49E1-8263-207DD8ADC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471B-1B13-491D-B25E-A7346A521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59CA3-4824-4592-8260-429D55D5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507F-D2B5-4E0A-A27C-29F7E7C52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527A-8708-4C4C-9A02-E9C3BB562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E43D5-06D7-4406-85F2-1BFAF864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CF9E-5DA7-4F87-9A2E-FF9A2ACE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500E-D904-4B13-8F11-2FF8A78FA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9A51-7732-4B14-B801-B06ED611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A8AC-7F00-4686-B971-1EA9DBF0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DAE7-783C-471A-95B8-26B16B66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3722-CC98-4C8A-960B-78BD8FD42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BB0D-2B01-42D1-B9EA-65CD51C08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AF3A4-6545-49AB-8B72-23DD77E36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00ADB0-165C-41D9-931E-7173C01A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5078A-86A9-42B2-A701-CE8B9E883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1FAA4-9BB1-4278-967C-18971F8F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907C5-1365-495C-BA1A-9FB55DF9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0A0ADF-B3CD-4BFD-B140-6118A52E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DB46-BDA7-49B1-A6C9-39DADE955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20E86-32D1-46C1-A0A4-E6CBEFD00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F8917-7B5D-4DE8-9043-D8A99A0E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F6B0C-9485-42BB-A2DB-FC359F18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B3446E-D418-471D-88B5-6A22C4C9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53373-4C71-4213-8793-C8677870D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A0DD1-E004-4C6A-B811-DFEFFF5BE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42787-6B71-43B2-AF8E-360B5E3CC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9370B-17EF-45B2-BF21-6D564A954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07C86-CD72-4419-8531-98CE2B7CC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17B16-A248-4D49-983E-A243EE7E7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E144-D889-4829-AA39-35EE09CF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55EB13-2633-4CF3-8D9B-E19B265FD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B98F4-B1A8-41C5-B3BF-1DB9CB87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B2A1FD-4BF9-477E-A89D-32B0D56C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4843B-BDFF-4B10-8B7C-94069C3C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3E5D24-D09C-47E7-800D-160A7F09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BFE1C-5154-48E1-AC0C-C5DEBEA8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471191-8671-43D8-AFD6-1A66B18C9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E73D5-80CF-4514-B0E0-1BB27284D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3A0F8-55BC-498A-893F-8AFAC03FA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B73C5D-1E5E-4D99-9D6C-F3675CA6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2A5B-280B-4576-8D1A-06BE03D06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371B97-A406-4592-A5AE-07232AE37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AA60C-880E-4C9A-A6BB-ED6D366A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8D70CF-FA51-4A73-BE57-D1BB8AB1A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C2ED38-B652-42D3-838B-15DD6274D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3D1BC-97D5-4EA4-BECF-020EE48B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F2259-941D-44D2-A640-C134C4FC2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2F3902-C25E-4241-AA2E-2006C0F4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5F3FDF-3560-4E98-AEF1-B5A94F7A5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AD2C4-7FB2-4150-A896-11D351C0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4B443-862C-4B5C-8801-44E68D2A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B829-EEBE-4FE0-BB06-98AFFC01C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302B9-ADEC-4254-A051-84268B67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7DD9-5A35-45E4-B44F-DF61268C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0F5A-6009-4020-8C3A-783468A77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3552-310B-4ED8-98EE-19199574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674A2-21E2-4F38-B055-E6B359F9336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B7355-2D1A-4724-9860-457C8177B26C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4BF5-C054-4678-9BE6-903E4E1082A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19AE-4756-47F5-B76B-6816CAC86B1D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489F-7DD4-4564-B998-FBE2FB8449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774000" y="1617480"/>
            <a:ext cx="5992920" cy="120456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LOS APUNTES: ADVERBS THAT END IN –MENTE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5.2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Franklin Gothic Book"/>
                <a:ea typeface="Tung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 YEAR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Tung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WHITE BOARD PRACTICE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304920" y="1100160"/>
            <a:ext cx="853416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98960" indent="-49896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I am running carefully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777600" indent="-4989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Yo estoy corriendo cuidadosamente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97160" indent="-497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2. We are talking easily and calmly.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777600" indent="-4989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stamos hablando fácil y tranquilamente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555840" indent="-4989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3. I especially like (Especially I like) the appetizers in this restaurant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777600" indent="-49896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specialmente me gustan las tapas en este restaurante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5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0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5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0" dur="5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5" dur="5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0" dur="5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240" y="669960"/>
            <a:ext cx="883908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7c984a"/>
                </a:solidFill>
                <a:latin typeface="Franklin Gothic Medium"/>
              </a:rPr>
              <a:t>WHITE BOARD PRACTICE 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– ANSWER THE QUESTION BY SAYING THAT THE PERSON</a:t>
            </a:r>
            <a:r>
              <a:rPr b="0" lang="es-ES_tradnl" sz="2800" spc="-1" strike="noStrike">
                <a:solidFill>
                  <a:srgbClr val="f96a1b"/>
                </a:solidFill>
                <a:latin typeface="Franklin Gothic Medium"/>
              </a:rPr>
              <a:t> IS/ARE DOING 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IT/THEM </a:t>
            </a:r>
            <a:r>
              <a:rPr b="0" lang="es-ES_tradnl" sz="2800" spc="-1" strike="noStrike">
                <a:solidFill>
                  <a:srgbClr val="08a1d9"/>
                </a:solidFill>
                <a:latin typeface="Franklin Gothic Medium"/>
              </a:rPr>
              <a:t>RIGHT NOW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. YOU WILL HAVE A </a:t>
            </a:r>
            <a:r>
              <a:rPr b="0" lang="es-ES_tradnl" sz="2800" spc="-1" strike="noStrike">
                <a:solidFill>
                  <a:srgbClr val="ff0000"/>
                </a:solidFill>
                <a:latin typeface="Franklin Gothic Medium"/>
              </a:rPr>
              <a:t>REFLEXIVE PRONOUN 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OR </a:t>
            </a:r>
            <a:r>
              <a:rPr b="0" lang="es-ES_tradnl" sz="2800" spc="-1" strike="noStrike">
                <a:solidFill>
                  <a:srgbClr val="ff0000"/>
                </a:solidFill>
                <a:latin typeface="Franklin Gothic Medium"/>
              </a:rPr>
              <a:t>DIRECT OBJECT PRONOUN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 IN THE ANSWER.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304560" y="1906560"/>
            <a:ext cx="883908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¿Vas a bañarte hoy?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71600" indent="-4716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stoy bañándome. (Me estoy bañando.)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71600" indent="-471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2. ¿Va a sacar la basura Elena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71600" indent="-4716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lla está sacándola.  (Ella la está sacando.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71600" indent="-471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3. ¿Vais a peinaros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71600" indent="-4716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stamos peinándonos. (Nos estamos peinando.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71600" indent="-471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4. ¿Van a escuchar la música las chicas?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471600" indent="-4716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Book"/>
              </a:rPr>
              <a:t>Ellas están escuchándola. (Ellas la están escuchando.)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527040" indent="-4730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7" dur="20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2" dur="20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2" dur="20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7" dur="20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2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DJECTIVES ENDING IN E, L, Z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38080" y="1098360"/>
            <a:ext cx="7521840" cy="357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o describe how something is done, you should use _______________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hen an adjective ends in ______, ______, or ______, simply add ______________ to the end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1639800" y="1895400"/>
            <a:ext cx="144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ADVERB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4495680" y="3124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5486400" y="31240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TextBox 6"/>
          <p:cNvSpPr/>
          <p:nvPr/>
        </p:nvSpPr>
        <p:spPr>
          <a:xfrm>
            <a:off x="6934320" y="31240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TextBox 7"/>
          <p:cNvSpPr/>
          <p:nvPr/>
        </p:nvSpPr>
        <p:spPr>
          <a:xfrm>
            <a:off x="3087720" y="38098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DJECTIVES ENDING IN E, L, OR Z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reciente</a:t>
            </a: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recent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recuente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requent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ácil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easy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normal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normal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especial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pecial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feliz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happy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6" name="TextBox 3"/>
          <p:cNvSpPr/>
          <p:nvPr/>
        </p:nvSpPr>
        <p:spPr>
          <a:xfrm>
            <a:off x="3352680" y="1046160"/>
            <a:ext cx="502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reciente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  </a:t>
            </a:r>
            <a:r>
              <a:rPr b="0" lang="en-US" sz="2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recently, late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809880" y="1625760"/>
            <a:ext cx="4800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frecuente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 </a:t>
            </a:r>
            <a:r>
              <a:rPr b="0" lang="en-US" sz="2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frequently, often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2971800" y="220968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fácil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 </a:t>
            </a:r>
            <a:r>
              <a:rPr b="0" lang="en-US" sz="2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easi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TextBox 6"/>
          <p:cNvSpPr/>
          <p:nvPr/>
        </p:nvSpPr>
        <p:spPr>
          <a:xfrm>
            <a:off x="3657600" y="2743200"/>
            <a:ext cx="3429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normal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 </a:t>
            </a:r>
            <a:r>
              <a:rPr b="0" lang="en-US" sz="2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normal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TextBox 7"/>
          <p:cNvSpPr/>
          <p:nvPr/>
        </p:nvSpPr>
        <p:spPr>
          <a:xfrm>
            <a:off x="3276720" y="3276720"/>
            <a:ext cx="426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especial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 </a:t>
            </a:r>
            <a:r>
              <a:rPr b="0" lang="en-US" sz="2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especial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1" name="TextBox 8"/>
          <p:cNvSpPr/>
          <p:nvPr/>
        </p:nvSpPr>
        <p:spPr>
          <a:xfrm>
            <a:off x="2971800" y="3807000"/>
            <a:ext cx="342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feliz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 </a:t>
            </a:r>
            <a:r>
              <a:rPr b="0" lang="en-US" sz="2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happi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DJECTIVES ENDING IN O, A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hen an adjective ends in _______ or _______, you should add _____________ to the </a:t>
            </a:r>
            <a:r>
              <a:rPr b="1" i="1" lang="en-US" sz="2800" spc="-1" strike="noStrike">
                <a:solidFill>
                  <a:srgbClr val="000000"/>
                </a:solidFill>
                <a:latin typeface="Franklin Gothic Book"/>
              </a:rPr>
              <a:t>feminine form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of the word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TextBox 3"/>
          <p:cNvSpPr/>
          <p:nvPr/>
        </p:nvSpPr>
        <p:spPr>
          <a:xfrm>
            <a:off x="2971800" y="19810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TextBox 10"/>
          <p:cNvSpPr/>
          <p:nvPr/>
        </p:nvSpPr>
        <p:spPr>
          <a:xfrm>
            <a:off x="5943600" y="1295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TextBox 11"/>
          <p:cNvSpPr/>
          <p:nvPr/>
        </p:nvSpPr>
        <p:spPr>
          <a:xfrm>
            <a:off x="4572000" y="12952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5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DJECTIVES ENDING IN O, A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cuidadoso(a)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careful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rápido(a)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fast, quick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lento(a)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slow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</a:rPr>
              <a:t>tranquilo(a) 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</a:rPr>
              <a:t> calm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9" name="TextBox 3"/>
          <p:cNvSpPr/>
          <p:nvPr/>
        </p:nvSpPr>
        <p:spPr>
          <a:xfrm>
            <a:off x="3962520" y="106668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uidadosa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areful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0" name="TextBox 4"/>
          <p:cNvSpPr/>
          <p:nvPr/>
        </p:nvSpPr>
        <p:spPr>
          <a:xfrm>
            <a:off x="3733920" y="167652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rápida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quick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1" name="TextBox 5"/>
          <p:cNvSpPr/>
          <p:nvPr/>
        </p:nvSpPr>
        <p:spPr>
          <a:xfrm>
            <a:off x="3505320" y="228600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lenta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slow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TextBox 6"/>
          <p:cNvSpPr/>
          <p:nvPr/>
        </p:nvSpPr>
        <p:spPr>
          <a:xfrm>
            <a:off x="3809880" y="2798640"/>
            <a:ext cx="5257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tranquila</a:t>
            </a:r>
            <a:r>
              <a:rPr b="0" lang="en-US" sz="3000" spc="-1" strike="noStrike">
                <a:solidFill>
                  <a:srgbClr val="f96a1b"/>
                </a:solidFill>
                <a:latin typeface="Franklin Gothic Book"/>
                <a:ea typeface="Arial"/>
              </a:rPr>
              <a:t>mente</a:t>
            </a:r>
            <a:r>
              <a:rPr b="0" lang="en-US" sz="1800" spc="-1" strike="noStrike">
                <a:solidFill>
                  <a:srgbClr val="000000"/>
                </a:solidFill>
                <a:latin typeface="Franklin Gothic Book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Franklin Gothic Book"/>
                <a:ea typeface="Arial"/>
              </a:rPr>
              <a:t>calmly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ACCENT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Notice that you must keep an __________________ when an adjective is changed to an adverb.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Rápido                rápidament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ácil 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ácilment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When you are using two adverbs, __________ the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-mente from the __________ adverb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401760" indent="-1638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lenta y tranquila</a:t>
            </a:r>
            <a:r>
              <a:rPr b="0" lang="en-US" sz="2400" spc="-1" strike="noStrike">
                <a:solidFill>
                  <a:srgbClr val="f96a1b"/>
                </a:solidFill>
                <a:latin typeface="Franklin Gothic Book"/>
              </a:rPr>
              <a:t>mente  (slowly and calmly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5" name="Right Arrow 3"/>
          <p:cNvSpPr/>
          <p:nvPr/>
        </p:nvSpPr>
        <p:spPr>
          <a:xfrm>
            <a:off x="2438280" y="2066760"/>
            <a:ext cx="914400" cy="152640"/>
          </a:xfrm>
          <a:prstGeom prst="rightArrow">
            <a:avLst>
              <a:gd name="adj1" fmla="val 50000"/>
              <a:gd name="adj2" fmla="val 49921"/>
            </a:avLst>
          </a:prstGeom>
          <a:solidFill>
            <a:srgbClr val="f96a1b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6" name="Right Arrow 4"/>
          <p:cNvSpPr/>
          <p:nvPr/>
        </p:nvSpPr>
        <p:spPr>
          <a:xfrm>
            <a:off x="2438280" y="2514600"/>
            <a:ext cx="914400" cy="1522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f96a1b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7" name="TextBox 5"/>
          <p:cNvSpPr/>
          <p:nvPr/>
        </p:nvSpPr>
        <p:spPr>
          <a:xfrm>
            <a:off x="5334120" y="990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ACCEN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8" name="TextBox 6"/>
          <p:cNvSpPr/>
          <p:nvPr/>
        </p:nvSpPr>
        <p:spPr>
          <a:xfrm>
            <a:off x="2895480" y="34336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FIRS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9" name="TextBox 7"/>
          <p:cNvSpPr/>
          <p:nvPr/>
        </p:nvSpPr>
        <p:spPr>
          <a:xfrm>
            <a:off x="5181480" y="297180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6a1b"/>
                </a:solidFill>
                <a:latin typeface="Franklin Gothic Book"/>
                <a:ea typeface="Arial"/>
              </a:rPr>
              <a:t>DROP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8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LA PR</a:t>
            </a: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ÁCTICA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91440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Luis talks quickly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Franklin Gothic Book"/>
              </a:rPr>
              <a:t>Luis habla rápidamente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2. Mercedes works frequently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Franklin Gothic Book"/>
              </a:rPr>
              <a:t>Mercedes trabaja frecuentemente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3. Alvaro waits patiently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Franklin Gothic Book"/>
              </a:rPr>
              <a:t>Alvaro espera pacientemente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4</a:t>
            </a:r>
            <a:r>
              <a:rPr b="1" lang="es-MX" sz="28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Jorge finishes his homework slowly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Franklin Gothic Book"/>
              </a:rPr>
              <a:t>Jorge termina su tarea lentamente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5. Beto and Marta sing  carefully and happily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Franklin Gothic Book"/>
              </a:rPr>
              <a:t>Beto y Marta cantan cuidadosa y felizmente</a:t>
            </a: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6. We run slowly and calmly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Franklin Gothic Book"/>
              </a:rPr>
              <a:t>Nosotros corremos lenta y tranquilamente.</a:t>
            </a:r>
            <a:r>
              <a:rPr b="0" lang="es-MX" sz="2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81600" indent="-15552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ITE BOARD PRACTICE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57200" y="914400"/>
            <a:ext cx="832176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1.  Enrique vacuums carefull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264960" indent="-1080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Enrique pasa la aspiradora cuidadosamente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2.  Rocío and Ana dust normall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264960" indent="-1080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Rocío y Ana quitan el polvo normalmente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3. Manuela goes shopping frequentl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264960" indent="-1080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Manuela va de compras frecuentemente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4. Pamela eats breakfast calmly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264960" indent="-1080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Pamela desayuna tranquilamente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1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5. We dance happily. 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264960" indent="-108000">
              <a:spcBef>
                <a:spcPts val="300"/>
              </a:spcBef>
              <a:buClr>
                <a:srgbClr val="f96a1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Franklin Gothic Book"/>
              </a:rPr>
              <a:t>Nosotros bailamos felizmente</a:t>
            </a:r>
            <a:r>
              <a:rPr b="0" lang="en-US" sz="3200" spc="-1" strike="noStrike">
                <a:solidFill>
                  <a:srgbClr val="000000"/>
                </a:solidFill>
                <a:latin typeface="Franklin Gothic Boo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Franklin Gothic Book"/>
            </a:endParaRPr>
          </a:p>
          <a:p>
            <a:pPr marL="226080" indent="-226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Franklin Gothic Medium"/>
              </a:rPr>
              <a:t>WHITE BOARD PRACTICE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100160"/>
            <a:ext cx="830592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1. I should sweep the floor quickly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96a1b"/>
                </a:solidFill>
                <a:latin typeface="Franklin Gothic Book"/>
              </a:rPr>
              <a:t>Yo debo barrer el suelo rápidamente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2. You (singular/formal) should shower yourself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96a1b"/>
                </a:solidFill>
                <a:latin typeface="Franklin Gothic Book"/>
              </a:rPr>
              <a:t>Usted debe ducharse. 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Franklin Gothic Book"/>
              </a:rPr>
              <a:t>3. You all (plural/familiar/Spain) should take out the trash frequently.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marL="308520" indent="-308520">
              <a:spcBef>
                <a:spcPts val="799"/>
              </a:spcBef>
              <a:buClr>
                <a:srgbClr val="f96a1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96a1b"/>
                </a:solidFill>
                <a:latin typeface="Franklin Gothic Book"/>
              </a:rPr>
              <a:t>Vosotros debéis sacar la basura frecuentemente. </a:t>
            </a:r>
            <a:endParaRPr b="1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8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8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8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8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8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800" fill="hold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8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8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8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8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8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8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8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8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800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4" dur="8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8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800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8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8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8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6T22:16:05Z</dcterms:created>
  <dc:creator>Taeger, Amber</dc:creator>
  <dc:description/>
  <dc:language>en-US</dc:language>
  <cp:lastModifiedBy>Prine, Stephanie</cp:lastModifiedBy>
  <dcterms:modified xsi:type="dcterms:W3CDTF">2013-11-04T17:10:27Z</dcterms:modified>
  <cp:revision>11</cp:revision>
  <dc:subject/>
  <dc:title>Adverbs that end in –mente</dc:title>
</cp:coreProperties>
</file>